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AB2-D764-42B1-B1D9-BF37FC12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294-603A-4FEF-BC78-F30446E2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557-93E3-41D9-9C8A-3A1D159A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696-66FC-4567-846D-58C70D8C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C456-6CA6-4706-8F5D-AC2CA720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6719-DC2E-4C2B-825F-E1585E96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653-416B-4B04-90F3-832CDFB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51A-9D2E-4D46-9909-667DFAB3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179-145D-4951-89C7-CE88421A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515B-A305-4D9B-942A-CF254192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E151-0EAA-4A73-9D6D-09731AE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32F-472A-4A44-BAF8-865C3757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736-1780-44B8-86DD-B45E247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E877-8C59-4467-8C61-BFDFCD5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0E97-DFC9-4D70-B3EA-A906CAE8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2F48-8435-49EC-A674-401612FB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26B-03F2-4D56-95AA-C55684AF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7D9-F519-4C4F-8680-10C8BEC6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8AC-0333-4AF7-AD22-94B25A3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9B2-7333-448E-BDB5-EA7BF2C2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E8C-77CF-40F0-9077-2A2E5E97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51E-D70D-4855-BFEA-23660E7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266-A218-45D1-9ECE-EFF3A33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17C-CB5B-49A1-9B25-54CA14E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4D5C-5ADB-42A5-BB64-B6ABE74C370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EA29-0B89-4928-AC17-0AB97524263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Texa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texas.html" TargetMode="Externa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23880" y="1905120"/>
            <a:ext cx="51818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ex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7086600" y="152280"/>
            <a:ext cx="2057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arlo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191120" y="380880"/>
            <a:ext cx="2133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50 states,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 Black"/>
              </a:rPr>
              <a:t>Texas song,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0/7/10,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50states.com/Texa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te Name: Tex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ate Capital: Aust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pulation:20,851,82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tered the Union: December 24 , 1845 (28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tto: Friendshi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ickname: Lone Star St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ower: Blue Bonne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ird: Mocking Bi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ng: Texas ,Our Tex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934320" y="2819520"/>
            <a:ext cx="1728720" cy="1981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86728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858000" y="49528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56386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Texas: Map and State Flag"/>
          <p:cNvPicPr/>
          <p:nvPr/>
        </p:nvPicPr>
        <p:blipFill>
          <a:blip r:embed="rId1"/>
          <a:srcRect l="0" t="35833" r="-4058" b="0"/>
          <a:stretch/>
        </p:blipFill>
        <p:spPr>
          <a:xfrm>
            <a:off x="4267080" y="3048120"/>
            <a:ext cx="3657600" cy="3084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Texas: Map and State Flag"/>
          <p:cNvPicPr/>
          <p:nvPr/>
        </p:nvPicPr>
        <p:blipFill>
          <a:blip r:embed="rId2"/>
          <a:srcRect l="10200" t="0" r="0" b="65675"/>
          <a:stretch/>
        </p:blipFill>
        <p:spPr>
          <a:xfrm>
            <a:off x="762120" y="1219320"/>
            <a:ext cx="3352680" cy="1752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066680" y="39988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64832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en’s Guide to U.S.  Government, Quick Facts Texas 22 September 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ttp://bensguide.gpo.gov/3-5/state/texas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86600" y="1905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5334120" y="914400"/>
            <a:ext cx="1819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3 0.046 -0.16647 0.113 -0.1718 C 0.177 -0.17846 0.237 -0.11853 0.241 -0.03196 C 0.246 0.04794 0.204 0.12252 0.144 0.12785 C 0.089 0.13185 0.037 0.08257 0.033 0.00799 C 0.029 -0.05993 0.064 -0.12386 0.115 -0.12918 C 0.162 -0.13318 0.206 -0.09189 0.209 -0.0293 C 0.212 0.02664 0.184 0.08124 0.142 0.0839 C 0.104 0.0879 0.068 0.05594 0.065 0.00533 C 0.063 -0.03995 0.084 -0.0839 0.117 -0.08657 C 0.146 -0.08923 0.175 -0.06526 0.177 -0.02664 C 0.179 0.00666 0.164 0.03862 0.14 0.04129 C 0.12 0.04395 0.099 0.0293 0.098 0.00266 C 0.096 -0.01865 0.104 -0.04129 0.119 -0.04395 C 0.131 -0.04395 0.143 -0.03862 0.145 -0.02397 C 0.146 -0.01465 0.144 -0.00533 0.138 -0.00133 C 0.135 0 0.133 0 0.13 -0.00133 E">
                                      <p:cBhvr>
                                        <p:cTn id="7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All images Copyright © 1997 - 2000 WriteLine. All Rights Reserved. Texas State Capitol"/>
          <p:cNvPicPr/>
          <p:nvPr/>
        </p:nvPicPr>
        <p:blipFill>
          <a:blip r:embed="rId1"/>
          <a:stretch/>
        </p:blipFill>
        <p:spPr>
          <a:xfrm>
            <a:off x="0" y="8380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All images Copyright © 1997 - 2000 WriteLine. All Rights Reserved. Spanish Mission, American Fort"/>
          <p:cNvPicPr/>
          <p:nvPr/>
        </p:nvPicPr>
        <p:blipFill>
          <a:blip r:embed="rId2"/>
          <a:stretch/>
        </p:blipFill>
        <p:spPr>
          <a:xfrm>
            <a:off x="4800600" y="60948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343400" y="453240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43434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The Alamo-San Antonio, Texas, http://www.postcardsfrom.com/t1/990208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43434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5391000"/>
            <a:ext cx="380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Alamo is one of Texas most famous places to visit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0Z</dcterms:created>
  <dc:creator>install</dc:creator>
  <dc:description/>
  <dc:language>en-US</dc:language>
  <cp:lastModifiedBy>install</cp:lastModifiedBy>
  <dcterms:modified xsi:type="dcterms:W3CDTF">2010-10-14T13:19:47Z</dcterms:modified>
  <cp:revision>11</cp:revision>
  <dc:subject/>
  <dc:title>Slide 1</dc:title>
</cp:coreProperties>
</file>